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5FFDDA-6D69-4E49-AB7B-BCDC94AE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A7DBC2-EAE1-4377-898A-63BCB81D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C6C16C-CD2E-484F-9F9A-C5D4158C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305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305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6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429680" y="0"/>
            <a:ext cx="17143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6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429680" y="0"/>
            <a:ext cx="1714320" cy="3808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457200" y="990720"/>
            <a:ext cx="822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733920" y="365724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naging Dir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Luiz Cas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imur Omo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atrick Tal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685800" y="3075120"/>
            <a:ext cx="7620120" cy="46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ran Brothers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: Opt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run a series of Monte Carlo simulations changing a Decision Variable (Yellow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550880" y="2446200"/>
            <a:ext cx="6292800" cy="388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Quest – without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hreshold: -0.1 million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1119240" y="1969920"/>
            <a:ext cx="6905520" cy="461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 can be turned On/Off (no j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ptimal threshold: 0.1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rofit: 5.55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making a profit: 89.4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700280" y="2854440"/>
            <a:ext cx="5743440" cy="372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Quest – with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hreshold: -0.1 million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52960" t="27481" r="8486" b="29763"/>
          <a:stretch/>
        </p:blipFill>
        <p:spPr>
          <a:xfrm>
            <a:off x="1338120" y="2022480"/>
            <a:ext cx="6467760" cy="448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 can be turned On/Off (w. j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ptimal threshold: 0.1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rofit: 5.60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making a profit: 80.9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700280" y="2751120"/>
            <a:ext cx="5743440" cy="372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68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ling contract is worth 5.6 million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prices lower than the following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= 5.6*(1-Marg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argin is defined by the client (inves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7"/>
          <p:cNvSpPr/>
          <p:nvPr/>
        </p:nvSpPr>
        <p:spPr>
          <a:xfrm>
            <a:off x="762120" y="3135240"/>
            <a:ext cx="7619760" cy="1009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lling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vestor is offered a two months tolling contract for a power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paid to evaluate the de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Expected profit and Probability of a positive prof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914400" y="2438280"/>
            <a:ext cx="3581280" cy="2819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ves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s rent (tolling con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perating decisions (plant ON/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s pr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pr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profits/lo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105520" y="2438280"/>
            <a:ext cx="3581280" cy="2819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lant ow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rent (tolling con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the plant  as specified by the inves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4343400" y="3657600"/>
            <a:ext cx="838080" cy="457200"/>
          </a:xfrm>
          <a:prstGeom prst="leftRightArrow">
            <a:avLst>
              <a:gd name="adj1" fmla="val 50000"/>
              <a:gd name="adj2" fmla="val 633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fi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80880" y="6321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Heat Rate is the number of units of gas needed to produce one unit of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45960" y="1492200"/>
            <a:ext cx="8450280" cy="180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of power * Capacity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ce of Gas * Heat Rate * Capac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xed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457200" y="3463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and power prices are not known with certain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, fixed costs and heat rate are gi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ing Future Prices –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gas price is determined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revers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with price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33240" y="4773600"/>
            <a:ext cx="8229600" cy="1189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*st.dev – [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 * (1 / 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s the number of weeks to revert to the 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a normally distributed random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ing Future Prices –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609480" y="15238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ower price is determined us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reversion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lation with price of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mp factor: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(t) = Jump*x + J(t-1)*(T-1/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57200" y="4773600"/>
            <a:ext cx="8229600" cy="1189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*st.dev – [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 * (1 / T) + 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s the number of weeks to revert to the 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normally distributed random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14"/>
          <p:cNvGrpSpPr/>
          <p:nvPr/>
        </p:nvGrpSpPr>
        <p:grpSpPr>
          <a:xfrm>
            <a:off x="890640" y="1233360"/>
            <a:ext cx="7848360" cy="2286000"/>
            <a:chOff x="890640" y="1233360"/>
            <a:chExt cx="7848360" cy="2286000"/>
          </a:xfrm>
        </p:grpSpPr>
        <p:sp>
          <p:nvSpPr>
            <p:cNvPr id="104" name="Rectangle 15"/>
            <p:cNvSpPr/>
            <p:nvPr/>
          </p:nvSpPr>
          <p:spPr>
            <a:xfrm>
              <a:off x="890640" y="1233360"/>
              <a:ext cx="784836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6" descr=""/>
            <p:cNvPicPr/>
            <p:nvPr/>
          </p:nvPicPr>
          <p:blipFill>
            <a:blip r:embed="rId1"/>
            <a:stretch/>
          </p:blipFill>
          <p:spPr>
            <a:xfrm>
              <a:off x="1104840" y="1412640"/>
              <a:ext cx="7481880" cy="19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: 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638600" y="1660680"/>
            <a:ext cx="3881520" cy="50083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3"/>
          <p:cNvSpPr/>
          <p:nvPr/>
        </p:nvSpPr>
        <p:spPr>
          <a:xfrm>
            <a:off x="2825640" y="1806480"/>
            <a:ext cx="1676520" cy="129564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: 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890640" y="1233360"/>
            <a:ext cx="7848360" cy="2286000"/>
            <a:chOff x="890640" y="1233360"/>
            <a:chExt cx="7848360" cy="2286000"/>
          </a:xfrm>
        </p:grpSpPr>
        <p:sp>
          <p:nvSpPr>
            <p:cNvPr id="111" name="Rectangle 2"/>
            <p:cNvSpPr/>
            <p:nvPr/>
          </p:nvSpPr>
          <p:spPr>
            <a:xfrm>
              <a:off x="890640" y="1233360"/>
              <a:ext cx="784836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"/>
            <p:cNvPicPr/>
            <p:nvPr/>
          </p:nvPicPr>
          <p:blipFill>
            <a:blip r:embed="rId1"/>
            <a:stretch/>
          </p:blipFill>
          <p:spPr>
            <a:xfrm>
              <a:off x="1104840" y="1412640"/>
              <a:ext cx="7481880" cy="197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4" descr=""/>
          <p:cNvPicPr/>
          <p:nvPr/>
        </p:nvPicPr>
        <p:blipFill>
          <a:blip r:embed="rId2"/>
          <a:stretch/>
        </p:blipFill>
        <p:spPr>
          <a:xfrm>
            <a:off x="33480" y="3336840"/>
            <a:ext cx="9110520" cy="3267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5"/>
          <p:cNvSpPr/>
          <p:nvPr/>
        </p:nvSpPr>
        <p:spPr>
          <a:xfrm rot="5400000">
            <a:off x="3828960" y="1976400"/>
            <a:ext cx="1485720" cy="129528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00280" y="2548080"/>
            <a:ext cx="5743440" cy="3724200"/>
          </a:xfrm>
          <a:prstGeom prst="rect">
            <a:avLst/>
          </a:prstGeom>
          <a:ln w="0">
            <a:noFill/>
          </a:ln>
        </p:spPr>
      </p:pic>
      <p:sp>
        <p:nvSpPr>
          <p:cNvPr id="116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rofit: 4 Million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making a profit: 71.43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4572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 always 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optim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d optimal way to run the plant, deciding whether to turn it on or off for the nex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current theoretical profit (what would be this week profit if the power plant was running) as the decisio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reshold will be the minimum profit (or loss) that we will be willing to leave the power plant turn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to find the optimal threshold that maximizes the total (average)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7:53Z</dcterms:created>
  <dc:creator>Lucas Fortier</dc:creator>
  <dc:description/>
  <dc:language>en-US</dc:language>
  <cp:lastModifiedBy>laacjr</cp:lastModifiedBy>
  <dcterms:modified xsi:type="dcterms:W3CDTF">2009-04-29T14:58:45Z</dcterms:modified>
  <cp:revision>162</cp:revision>
  <dc:subject/>
  <dc:title>Slide 1</dc:title>
</cp:coreProperties>
</file>